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E21-3700-4FC6-8F98-E8B4D5A1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765-2CF7-400E-BD21-718F5E54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421A-30B4-4871-980E-6A2E26F2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50DD-C192-4CDB-AECB-25A7DA7C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27E0-A2B7-4EC3-B1A7-E8733213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FADB-EBA4-4279-B254-6007B312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7AD2-2F2C-4F6D-940A-C4408472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4D02-D7D4-4409-B62F-43E64E77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24F-F2A8-4D23-B98A-454ADF48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A39-AB8A-4F6A-92A5-EA33713B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8E2-4E68-45F2-86AA-BB964A48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5879-5B15-447F-93FA-CA351607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5304-15E3-4EB5-A3D4-189803BA1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Clase 701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29 de septiembre del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6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scuchas a los profes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b050"/>
                </a:solidFill>
                <a:latin typeface="Arial"/>
              </a:rPr>
              <a:t>L.O: to recall the use –AR verbs in the present 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the following expresion in a sentence; don’t forget to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onjugate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change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the 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ar mucho (to study a l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r apuntes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take class no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tar atención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pay atten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car notas (to get gra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Repaso Gramatical: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erbos -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2203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verb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es una palabra de a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spañol, los verbos terminan en –AR,--ER o –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(In Spanish, all verbs end in –AR, -ER, or –I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conjugar los verbos –AR en el presente, remplazamos la terminación de la siguiente mane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(to conjugate –AR verbs in the present, replace ending 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follows)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0000ff"/>
                </a:solidFill>
                <a:latin typeface="Arial"/>
              </a:rPr>
              <a:t>-AR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Yo-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ú-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Él Ella Ud-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sotros-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los Ellas Uds.  -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90% of all Spanish Verbs end in –AR!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9"/>
          <p:cNvSpPr/>
          <p:nvPr/>
        </p:nvSpPr>
        <p:spPr>
          <a:xfrm>
            <a:off x="3696120" y="373392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9"/>
          <p:cNvSpPr/>
          <p:nvPr/>
        </p:nvSpPr>
        <p:spPr>
          <a:xfrm>
            <a:off x="3711240" y="41148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9"/>
          <p:cNvSpPr/>
          <p:nvPr/>
        </p:nvSpPr>
        <p:spPr>
          <a:xfrm>
            <a:off x="3694320" y="45673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9"/>
          <p:cNvSpPr/>
          <p:nvPr/>
        </p:nvSpPr>
        <p:spPr>
          <a:xfrm>
            <a:off x="3735720" y="494820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9"/>
          <p:cNvSpPr/>
          <p:nvPr/>
        </p:nvSpPr>
        <p:spPr>
          <a:xfrm>
            <a:off x="3704760" y="548172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685800"/>
          <a:ext cx="9144000" cy="6013440"/>
        </p:xfrm>
        <a:graphic>
          <a:graphicData uri="http://schemas.openxmlformats.org/drawingml/2006/table">
            <a:tbl>
              <a:tblPr/>
              <a:tblGrid>
                <a:gridCol w="1946160"/>
                <a:gridCol w="1787760"/>
                <a:gridCol w="1752480"/>
                <a:gridCol w="1827360"/>
                <a:gridCol w="1830240"/>
              </a:tblGrid>
              <a:tr h="168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ai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o danc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o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o p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n instru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i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o watc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Prepa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o prepar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2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l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76320" y="2666880"/>
            <a:ext cx="1528560" cy="152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1866960" cy="161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3505320" y="2833560"/>
            <a:ext cx="1050840" cy="1433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6354720" y="2666880"/>
            <a:ext cx="1112760" cy="167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5"/>
          <a:stretch/>
        </p:blipFill>
        <p:spPr>
          <a:xfrm>
            <a:off x="7620120" y="28954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6"/>
          <a:stretch/>
        </p:blipFill>
        <p:spPr>
          <a:xfrm>
            <a:off x="6858000" y="4948200"/>
            <a:ext cx="647640" cy="160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"/>
          <p:cNvPicPr/>
          <p:nvPr/>
        </p:nvPicPr>
        <p:blipFill>
          <a:blip r:embed="rId7"/>
          <a:stretch/>
        </p:blipFill>
        <p:spPr>
          <a:xfrm>
            <a:off x="4809960" y="2743200"/>
            <a:ext cx="1209960" cy="1490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"/>
          <p:cNvPicPr/>
          <p:nvPr/>
        </p:nvPicPr>
        <p:blipFill>
          <a:blip r:embed="rId8"/>
          <a:stretch/>
        </p:blipFill>
        <p:spPr>
          <a:xfrm>
            <a:off x="4800600" y="4572000"/>
            <a:ext cx="1487520" cy="1547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76320" y="429732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mise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752480" y="414504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mi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3200400" y="41911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antal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4876920" y="4221000"/>
            <a:ext cx="121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lu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6324480" y="4267080"/>
            <a:ext cx="106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fal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7543800" y="422100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zapa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4876920" y="612612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u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7467480" y="55627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orb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2362320" y="83808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tationary S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1828800" y="14479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to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1600200" y="19810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loth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1523880" y="61261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iz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52280" y="11430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the paragraph using MATEO instead of ALI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</a:rPr>
              <a:t>Soy Alicia Fernandez. Soy de La Paz, Bolivia.  Soy boliviana. Soy alumna en una escuela privada. Soy una alumna bastante buena y soy graci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 para la Prue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28600" y="15699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PRESENTE DE LOS VERBOS –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OR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IZ REPASO A on TOMORR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: 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ula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ate Articles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, la, los,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7:41:10Z</dcterms:created>
  <dc:creator>Helen Zumaeta</dc:creator>
  <dc:description/>
  <dc:language>en-US</dc:language>
  <cp:lastModifiedBy>Helen Zumaeta</cp:lastModifiedBy>
  <dcterms:modified xsi:type="dcterms:W3CDTF">2015-09-29T14:32:47Z</dcterms:modified>
  <cp:revision>25</cp:revision>
  <dc:subject/>
  <dc:title>Me llamo ___________ Clase 6 NH/IL La fecha es el 10 de enero del 2011</dc:title>
</cp:coreProperties>
</file>